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440-9C80-4285-A44D-7620FA1C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65C-327E-4E58-8705-DA9ABD2D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D2A-29D7-431F-9E44-12293668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D18-22F4-4749-8595-A4A930FF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EB9-62DB-4C5D-B533-A6448B3D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D9C5-3093-4513-BFD3-5106AF57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4AE-F516-4A5E-B53D-C48632C0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470-B3FB-4EC2-A438-A590BFBC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90B1-3BDD-443F-95DC-36A789C8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F9E-31AE-4EB5-B653-26C47447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E85-BCF4-4BCD-997E-F6A5E693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2A86-946D-446E-B6DA-ED690B99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69B4-38BD-4ED8-A652-39AECCC58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cien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ALR:   1. SYSTEMS: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…..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understand the properties, structures, and changes in physical, earth/space, and living systems.   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Component:   1.1.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Properties: Understand how properties are used to identify, describe, and categorize substances, materials, and object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Earth and Space Systems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.1.5. Understand physical properties of Earth materials including rocks, soil, water, and air.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44280"/>
            <a:ext cx="9144000" cy="68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echnolog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ALR 2: Digital Citizenship: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udents demonstrate a clear understanding of technology systems and operations and practice safe, legal and ethical behavi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Component 2.3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Select and Use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 productivity tools and common applications effectively and constructiv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GLE: 2.3.1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lect and use common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 software to reinforce skills in all subject are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 common features of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rd processing or publishing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2570" t="7548" r="2345" b="5658"/>
          <a:stretch/>
        </p:blipFill>
        <p:spPr>
          <a:xfrm>
            <a:off x="0" y="0"/>
            <a:ext cx="8991720" cy="662940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304920" y="457200"/>
            <a:ext cx="8458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Technolog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ALR 1:  Integratio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udents use technology within all content areas to collaborate, communicate, generate innovative ideas, investigate and solve probl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Component 1.1   Inno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monstrate creative thinking, construct knowledge and develop innovative products and processes using technolo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Calibri"/>
              </a:rPr>
              <a:t>GLE 1.1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 models and simulations to explore systems, identify trends and forecast possibil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/>
          <p:cNvSpPr/>
          <p:nvPr/>
        </p:nvSpPr>
        <p:spPr>
          <a:xfrm>
            <a:off x="152280" y="228600"/>
            <a:ext cx="8991720" cy="66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ALR 2: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tudent understands the meaning of what is read.   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Component: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. Think critically and analyze author’s use of language, style, purpose, and perspective in literary and informational 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GLE: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.1. Apply the skills of drawing conclusions, providing a response, and expressing insights to informational/expository text and literary/narrative text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~1\bsdstaff\LOCALS~1\Temp\msohtmlclip1\01\clip_image001.png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4343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0" y="4572000"/>
            <a:ext cx="88390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onent 1.2   Collabo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digital media and environments to communicate and work collaboratively to support individual learning and contribute to the learning of 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L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2.1  Communicate and collaborate to learn with 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vidence of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te in online pro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 with others using email or other communication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echnolog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ALR 1:  Integratio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udents use technology within all content areas to collaborate, communicate, generate innovative ideas, investigate and solve probl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Component 1.2   Collabo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 digital media and environments to communicate and work collaboratively to support individual learning and contribute to the learning of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 </a:t>
            </a:r>
            <a:r>
              <a:rPr b="1" lang="en-US" sz="2800" spc="-1" strike="noStrike">
                <a:solidFill>
                  <a:srgbClr val="92d050"/>
                </a:solidFill>
                <a:latin typeface="Calibri"/>
              </a:rPr>
              <a:t>GLE:</a:t>
            </a: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92d050"/>
                </a:solidFill>
                <a:latin typeface="Calibri"/>
              </a:rPr>
              <a:t>1.2.1  Communicate and collaborate to learn with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rticipate in online pro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act with others using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ail or other communication too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04920" y="301680"/>
            <a:ext cx="8839080" cy="631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riting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ALR 4.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student analyzes and evaluates the effectiveness of written wor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Calibri"/>
              </a:rPr>
              <a:t>Component: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.1. Analyzes and evaluates others’ and own writ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GL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.1.1. Analyzes and evaluates writing using established criteri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04920" y="95400"/>
            <a:ext cx="85341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16:44Z</dcterms:created>
  <dc:creator>bsd501</dc:creator>
  <dc:description/>
  <dc:language>en-US</dc:language>
  <cp:lastModifiedBy>bsd501</cp:lastModifiedBy>
  <dcterms:modified xsi:type="dcterms:W3CDTF">2009-01-05T14:20:27Z</dcterms:modified>
  <cp:revision>97</cp:revision>
  <dc:subject/>
  <dc:title>Slide 1</dc:title>
</cp:coreProperties>
</file>